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CD6-373E-40BB-9177-E3F3A32A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636-E6BD-4586-A70A-0F854BEA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ACE-1F87-4247-BDA7-3BBA886C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09F-11F7-4E31-9AF1-5408E45C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A6F0-FE79-4FFC-83DB-30C1C18C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56CF-3887-4902-9120-30C9602C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A6FA-3590-4D9D-AEF2-CD927408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DA43-D700-4147-BF7C-22C2F5B8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75AC-6AEC-49B8-83D1-0132A7A9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7244-E928-44EE-AF37-6023D63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3D9C-1704-4DE6-8B22-5276C089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618-DEAA-4EB1-B84D-57B11206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7F24-8297-463C-B394-E1D3462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FCCA-4265-4A5E-83B0-8FCE2B43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BC3B-2A93-4A34-BB9B-2B94C59A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F7E2-A7AD-434E-A070-3E4CEF4C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2DD7-DCBD-4196-888B-E08C44CF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4BA-6F48-40C5-B988-993A6606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FC5-7C73-49AD-A157-0BDD230F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7E3-1A3D-4A27-96E8-9E66BEA4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CC1-8B8D-4FE0-9822-47FB03DF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000-D095-4BC5-8B0D-65A5226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D3E-4AD9-4ECE-AEAA-4F66D5AC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E2D-86B5-4F79-BAB9-90516D53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808F-130B-4E7A-B7EE-5F740BBB129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82D-8FE5-4D6D-9B9C-6CDEC10D593B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ормирование ИК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54561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енисова Е. 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9138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852640"/>
            <a:ext cx="8102520" cy="15130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Правовая форма, учредители и органы управления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55736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Муниципальное бюджетное учрежд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276640"/>
            <a:ext cx="792000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Учредитель:   Орган местного самоуправл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068640"/>
            <a:ext cx="381636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дминистрация район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645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  СКЦ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Устав СКЦ (основные положения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557360"/>
            <a:ext cx="7920000" cy="100872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ельский консультационный центр создается с целью технической поддержки развития сельского бизнеса, повышения занятости и доходов сельского насел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50760" y="2781360"/>
            <a:ext cx="801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Задачи СКЦ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повышение эффективности и устойчивости функционирования сельскохозяйственных организаций всех форм собственности на основе оперативного внедрения достижений научно-технического прогресса, передового производственного опыта, доведения до хозяйствующих субъектов научной технологической и рыночной информаци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информационно-консультационное обслуживание сельских товаропроизводителей всех форм собствен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создание и развитие современной инфраструктуры для решения задач продовольственного и материально-технического обеспечения сельских товаропроизводителей с использованием единого информационного пространства на базе Интернет – порт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981000"/>
            <a:ext cx="801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Виды деятель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Создание клиентской базы данных о хозяйствах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Организация испытаний и адаптации новшеств в районе (организация 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5. Консультационная деятельность с охватом хозяйст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6. Отработка технологии применения биостимуляторо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7. Создание базы данных по племенному учету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Менеджмент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1. Правовое обеспеч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2. Консультация  по ведению бухгалтерской и экономической отчетности КФХ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КЦ  имеет право осуществлять свою деятельность на коммерческой основ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661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уководитель СКЦ назначается Главой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КЦ создается и ликвидируется на основании Постановления Главы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0920" y="1168560"/>
            <a:ext cx="4660920" cy="5213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769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79480" y="1360440"/>
            <a:ext cx="808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оздание клиентской базы данных о хозяйствах район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 Организация испытаний и адаптации новшеств в районе (организация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2565360"/>
          <a:ext cx="7704000" cy="609480"/>
        </p:xfrm>
        <a:graphic>
          <a:graphicData uri="http://schemas.openxmlformats.org/drawingml/2006/table">
            <a:tbl>
              <a:tblPr/>
              <a:tblGrid>
                <a:gridCol w="3240000"/>
                <a:gridCol w="1511280"/>
                <a:gridCol w="1657080"/>
                <a:gridCol w="12956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-во опытных участков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(с новыми сорта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900000" y="328464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3716280"/>
          <a:ext cx="7704000" cy="83196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опытно-демонстрационны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участков (с разными удобрения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971640" y="479736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 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5214960"/>
          <a:ext cx="7704000" cy="121932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Ф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0" y="14320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42920" y="1844640"/>
          <a:ext cx="7632720" cy="98604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Муниципальные образования (для ЛПХ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044360" y="314172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42920" y="3645000"/>
          <a:ext cx="7632720" cy="60948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00" y="4941720"/>
          <a:ext cx="7559640" cy="609840"/>
        </p:xfrm>
        <a:graphic>
          <a:graphicData uri="http://schemas.openxmlformats.org/drawingml/2006/table">
            <a:tbl>
              <a:tblPr/>
              <a:tblGrid>
                <a:gridCol w="403236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973800" y="45086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Управление оборотом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416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08000" y="765000"/>
          <a:ext cx="4748400" cy="57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474840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907920"/>
            <a:ext cx="78692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Для дальнейшего развития сельской консультационной деятельности в субъекте РФ предлагается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оздать региональный научно-методический центр (НМЦ) сельского консультирования, который будет обеспечивать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Научно-методическую поддержку инновационной деятельности СКЦ с ведением опытно-демонстрационной деятельности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Адаптировать новшества под условия хозяйствования в агроклиматических условиях субъекта РФ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формировать на базе этого НМЦ координационный совет по технической поддержке сельского развити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беспечивать информационную поддержку сельского развития (работа со СМИ, выпуск журнала и т.п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58244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Отношения СКЦ с Региональным НМЦ выстраиваются на договорной основе (возможно СКЦ частично оплачивают услуги НМЦ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16000" y="907920"/>
          <a:ext cx="7488360" cy="55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07920"/>
                    <a:ext cx="748836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32000" y="1197000"/>
          <a:ext cx="7200720" cy="50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720072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209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0135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3645000"/>
            <a:ext cx="8102520" cy="25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равовая форма, учредители и органы управле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26828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втономная некоммерческ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700280"/>
            <a:ext cx="792000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чредител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рестьянских фермерских хозяйств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(?) – 20%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3716280"/>
            <a:ext cx="7848720" cy="1739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бщее собрание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ФХ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5661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 и задачи организаци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: Содействие в устойчивом развитии сельских территор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адачи: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ое и консультационное обеспечение сельских товаропроизводителей и сельского нас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иды и направления деятельност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ая поддержка сельского населения, сельского бизнеса и иных субъектов сельских территорий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Масштабная инновационная деятельност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бучающая поддержка сельского населения и представителей сельского бизнеса, местного самоуправления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ыполнение консультационных проектов в интересах субъектов сельского бизнес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ропогандистско-агитационная деятельнос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рганизационно-координационная деятельность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9138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30480" y="1628640"/>
            <a:ext cx="79135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2:34:05Z</dcterms:created>
  <dc:creator>123</dc:creator>
  <dc:description/>
  <dc:language>en-US</dc:language>
  <cp:lastModifiedBy>Delen</cp:lastModifiedBy>
  <dcterms:modified xsi:type="dcterms:W3CDTF">2008-12-10T14:59:16Z</dcterms:modified>
  <cp:revision>30</cp:revision>
  <dc:subject/>
  <dc:title/>
</cp:coreProperties>
</file>